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CHIMES.WAV" ContentType="audio/x-wav"/>
  <Override PartName="/ppt/media/CASHREG.WAV" ContentType="audio/x-wav"/>
  <Override PartName="/ppt/media/CAMERA.WAV" ContentType="audio/x-wav"/>
  <Override PartName="/ppt/media/image1.wmf" ContentType="image/x-wmf"/>
  <Override PartName="/ppt/media/LASER.WAV" ContentType="audio/x-wav"/>
  <Override PartName="/ppt/media/DRIVEBY.WAV" ContentType="audio/x-wav"/>
  <Override PartName="/ppt/media/CARBRAKE.WAV" ContentType="audio/x-wav"/>
  <Override PartName="/ppt/media/WHOOSH.WAV" ContentType="audio/x-wav"/>
  <Override PartName="/ppt/media/explode.wav" ContentType="audio/x-wav"/>
  <Override PartName="/ppt/media/zapbig0g.wav" ContentType="audio/x-wav"/>
  <Override PartName="/ppt/media/caralarmoff.wav" ContentType="audio/x-wav"/>
  <Override PartName="/ppt/media/image2.wmf" ContentType="image/x-wmf"/>
  <Override PartName="/ppt/media/PROJCTOR.WAV" ContentType="audio/x-wav"/>
  <Override PartName="/ppt/media/EXPLODE.WAV" ContentType="audio/x-wav"/>
  <Override PartName="/ppt/media/zipup202.wav" ContentType="audio/x-wav"/>
  <Override PartName="/ppt/media/yabba-dabba-do.wav" ContentType="audio/x-wav"/>
  <Override PartName="/ppt/media/image4.jpeg" ContentType="image/jpeg"/>
  <Override PartName="/ppt/media/jetflyby2.wav" ContentType="audio/x-wav"/>
  <Override PartName="/ppt/media/bserie06.wav" ContentType="audio/x-wav"/>
  <Override PartName="/ppt/media/image3.wmf" ContentType="image/x-wmf"/>
  <Override PartName="/ppt/media/GUNSHOT.WAV" ContentType="audio/x-wav"/>
  <Override PartName="/ppt/media/highchim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47B4-1100-4D80-8B58-AE66837D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2E1-156A-488B-AE7B-C4C0D9C9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883-4FDB-406F-9CD8-CF593F7A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8432-C6F0-468C-881B-63F67957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7B7-E5C1-43BD-8A49-8F231F76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EF5F-F5CA-4827-9EBB-C3AC60FC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5557-82AF-4E0F-A553-7265FF2D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857-5E67-46AB-894A-7DC3B961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FEE8-2218-4D91-AB9E-DD858ED1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0F5-0E9B-4BE6-896B-34084BA8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B2A-6350-481C-AAB5-5451B6A5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2590-1EDF-4D1A-9A74-798A18AB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BD76-C4ED-4CE8-8EC0-7A6FA86B8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WHOOSH.WAV"/><Relationship Id="rId8" Type="http://schemas.openxmlformats.org/officeDocument/2006/relationships/audio" Target="../media/GUNSHOT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CASHREG.WAV"/><Relationship Id="rId28" Type="http://schemas.openxmlformats.org/officeDocument/2006/relationships/audio" Target="../media/CASHREG.WAV"/><Relationship Id="rId29" Type="http://schemas.openxmlformats.org/officeDocument/2006/relationships/audio" Target="../media/PROJCTOR.WAV"/><Relationship Id="rId30" Type="http://schemas.openxmlformats.org/officeDocument/2006/relationships/audio" Target="../media/CARBRAKE.WAV"/><Relationship Id="rId31" Type="http://schemas.openxmlformats.org/officeDocument/2006/relationships/audio" Target="../media/DRIVEBY.WAV"/><Relationship Id="rId32" Type="http://schemas.openxmlformats.org/officeDocument/2006/relationships/audio" Target="../media/EXPLODE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EXPLODE.WAV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explod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ighchime.wav"/><Relationship Id="rId18" Type="http://schemas.openxmlformats.org/officeDocument/2006/relationships/audio" Target="../media/highchime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ipup202.wav"/><Relationship Id="rId3" Type="http://schemas.openxmlformats.org/officeDocument/2006/relationships/audio" Target="../media/zipup202.wav"/><Relationship Id="rId4" Type="http://schemas.openxmlformats.org/officeDocument/2006/relationships/audio" Target="../media/zipup202.wav"/><Relationship Id="rId5" Type="http://schemas.openxmlformats.org/officeDocument/2006/relationships/audio" Target="../media/zipup202.wav"/><Relationship Id="rId6" Type="http://schemas.openxmlformats.org/officeDocument/2006/relationships/audio" Target="../media/zipup202.wav"/><Relationship Id="rId7" Type="http://schemas.openxmlformats.org/officeDocument/2006/relationships/audio" Target="../media/zipup202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zipup202.wav"/><Relationship Id="rId2" Type="http://schemas.openxmlformats.org/officeDocument/2006/relationships/audio" Target="../media/zipup202.wav"/><Relationship Id="rId3" Type="http://schemas.openxmlformats.org/officeDocument/2006/relationships/audio" Target="../media/zipup202.wav"/><Relationship Id="rId4" Type="http://schemas.openxmlformats.org/officeDocument/2006/relationships/audio" Target="../media/zipup202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zipup202.wav"/><Relationship Id="rId2" Type="http://schemas.openxmlformats.org/officeDocument/2006/relationships/audio" Target="../media/zipup202.wav"/><Relationship Id="rId3" Type="http://schemas.openxmlformats.org/officeDocument/2006/relationships/audio" Target="../media/zipup202.wav"/><Relationship Id="rId4" Type="http://schemas.openxmlformats.org/officeDocument/2006/relationships/audio" Target="../media/zipup202.wav"/><Relationship Id="rId5" Type="http://schemas.openxmlformats.org/officeDocument/2006/relationships/audio" Target="../media/zipup202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RBRAK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CHIMES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aralarmoff.wav"/><Relationship Id="rId10" Type="http://schemas.openxmlformats.org/officeDocument/2006/relationships/audio" Target="../media/caralarmoff.wav"/><Relationship Id="rId11" Type="http://schemas.openxmlformats.org/officeDocument/2006/relationships/audio" Target="../media/CHIMES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HIMES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zapbig0g.wav"/><Relationship Id="rId8" Type="http://schemas.openxmlformats.org/officeDocument/2006/relationships/audio" Target="../media/CHIMES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CHIMES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zapbig0g.wav"/><Relationship Id="rId8" Type="http://schemas.openxmlformats.org/officeDocument/2006/relationships/audio" Target="../media/CHIMES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jetflyby2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bserie06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bserie06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bserie06.wav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ralarmoff.wav"/><Relationship Id="rId4" Type="http://schemas.openxmlformats.org/officeDocument/2006/relationships/audio" Target="../media/zapbig0g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zapbig0g.wav"/><Relationship Id="rId14" Type="http://schemas.openxmlformats.org/officeDocument/2006/relationships/audio" Target="../media/CHIMES.WAV"/><Relationship Id="rId15" Type="http://schemas.openxmlformats.org/officeDocument/2006/relationships/audio" Target="../media/yabba-dabba-do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Cir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3657600" cy="3657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0880" y="1523880"/>
            <a:ext cx="3657600" cy="3657600"/>
            <a:chOff x="380880" y="1523880"/>
            <a:chExt cx="3657600" cy="3657600"/>
          </a:xfrm>
        </p:grpSpPr>
        <p:sp>
          <p:nvSpPr>
            <p:cNvPr id="45" name=""/>
            <p:cNvSpPr/>
            <p:nvPr/>
          </p:nvSpPr>
          <p:spPr>
            <a:xfrm flipV="1">
              <a:off x="2209680" y="15238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0880" y="335268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8080" y="2057400"/>
              <a:ext cx="274320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838080" y="2133360"/>
              <a:ext cx="274320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47560" y="1676160"/>
              <a:ext cx="152388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371240" y="1676160"/>
              <a:ext cx="167652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6840" y="2666880"/>
              <a:ext cx="34290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56840" y="2743200"/>
              <a:ext cx="34290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4191120" y="4648320"/>
            <a:ext cx="53316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4648320"/>
            <a:ext cx="53352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4648320"/>
            <a:ext cx="53352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4648320"/>
            <a:ext cx="53316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4648320"/>
            <a:ext cx="53352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4648320"/>
            <a:ext cx="53352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4648320"/>
            <a:ext cx="53316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4648320"/>
            <a:ext cx="53352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4419360" y="4648320"/>
            <a:ext cx="53316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4952880" y="4648320"/>
            <a:ext cx="53352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5486400" y="4648320"/>
            <a:ext cx="53352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6019560" y="4648320"/>
            <a:ext cx="53316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6553080" y="4648320"/>
            <a:ext cx="53352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7086600" y="4648320"/>
            <a:ext cx="53352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7619760" y="4648320"/>
            <a:ext cx="53316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0800000">
            <a:off x="8153280" y="4648320"/>
            <a:ext cx="53352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6400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lf the circum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1295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6765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= b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4648320"/>
            <a:ext cx="0" cy="182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2" idx="0"/>
            <a:endCxn id="73" idx="1"/>
          </p:cNvCxnSpPr>
          <p:nvPr/>
        </p:nvCxnSpPr>
        <p:spPr>
          <a:xfrm flipV="1">
            <a:off x="6324480" y="4344480"/>
            <a:ext cx="914760" cy="304200"/>
          </a:xfrm>
          <a:prstGeom prst="curvedConnector3">
            <a:avLst>
              <a:gd name="adj1" fmla="val 2653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75" name=""/>
          <p:cNvGraphicFramePr/>
          <p:nvPr/>
        </p:nvGraphicFramePr>
        <p:xfrm>
          <a:off x="4724280" y="2057400"/>
          <a:ext cx="4114800" cy="11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1148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648320" y="3124080"/>
          <a:ext cx="3520800" cy="4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124080"/>
                    <a:ext cx="35208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648320" y="3533760"/>
          <a:ext cx="3352680" cy="63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533760"/>
                    <a:ext cx="33526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500"/>
                            </p:stCondLst>
                            <p:childTnLst>
                              <p:par>
                                <p:cTn id="9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aming Space Fig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80880" y="1447560"/>
            <a:ext cx="3048120" cy="2867760"/>
            <a:chOff x="380880" y="1447560"/>
            <a:chExt cx="3048120" cy="2867760"/>
          </a:xfrm>
        </p:grpSpPr>
        <p:sp>
          <p:nvSpPr>
            <p:cNvPr id="243" name=""/>
            <p:cNvSpPr/>
            <p:nvPr/>
          </p:nvSpPr>
          <p:spPr>
            <a:xfrm>
              <a:off x="380880" y="373392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rism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914400" y="1447560"/>
              <a:ext cx="1828800" cy="2210040"/>
              <a:chOff x="914400" y="1447560"/>
              <a:chExt cx="1828800" cy="2210040"/>
            </a:xfrm>
          </p:grpSpPr>
          <p:sp>
            <p:nvSpPr>
              <p:cNvPr id="245" name=""/>
              <p:cNvSpPr/>
              <p:nvPr/>
            </p:nvSpPr>
            <p:spPr>
              <a:xfrm>
                <a:off x="2286000" y="1447920"/>
                <a:ext cx="457200" cy="190476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14400" y="3048120"/>
                <a:ext cx="1828800" cy="609480"/>
              </a:xfrm>
              <a:prstGeom prst="hexagon">
                <a:avLst>
                  <a:gd name="adj" fmla="val 75015"/>
                  <a:gd name="vf" fmla="val 11547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14400" y="1447920"/>
                <a:ext cx="1828800" cy="609480"/>
              </a:xfrm>
              <a:prstGeom prst="hexagon">
                <a:avLst>
                  <a:gd name="adj" fmla="val 75015"/>
                  <a:gd name="vf" fmla="val 115470"/>
                </a:avLst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rot="10800000">
                <a:off x="914400" y="1447560"/>
                <a:ext cx="457200" cy="190476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71600" y="1447920"/>
                <a:ext cx="914400" cy="16002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914400" y="1752480"/>
                <a:ext cx="457200" cy="190512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71600" y="2057400"/>
                <a:ext cx="914400" cy="16002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3276720" y="2133720"/>
            <a:ext cx="2438280" cy="3248640"/>
            <a:chOff x="3276720" y="2133720"/>
            <a:chExt cx="2438280" cy="3248640"/>
          </a:xfrm>
        </p:grpSpPr>
        <p:sp>
          <p:nvSpPr>
            <p:cNvPr id="253" name=""/>
            <p:cNvSpPr/>
            <p:nvPr/>
          </p:nvSpPr>
          <p:spPr>
            <a:xfrm>
              <a:off x="3429000" y="4038840"/>
              <a:ext cx="228600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29000" y="2133720"/>
              <a:ext cx="1143000" cy="2210040"/>
            </a:xfrm>
            <a:custGeom>
              <a:avLst/>
              <a:gdLst/>
              <a:ahLst/>
              <a:rect l="l" t="t" r="r" b="b"/>
              <a:pathLst>
                <a:path w="720" h="1392">
                  <a:moveTo>
                    <a:pt x="720" y="1200"/>
                  </a:moveTo>
                  <a:lnTo>
                    <a:pt x="720" y="0"/>
                  </a:lnTo>
                  <a:lnTo>
                    <a:pt x="0" y="1392"/>
                  </a:lnTo>
                  <a:lnTo>
                    <a:pt x="720" y="1200"/>
                  </a:lnTo>
                  <a:close/>
                </a:path>
              </a:pathLst>
            </a:custGeom>
            <a:solidFill>
              <a:srgbClr val="99ff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571280" y="2133720"/>
              <a:ext cx="1143000" cy="2210040"/>
            </a:xfrm>
            <a:custGeom>
              <a:avLst/>
              <a:gdLst/>
              <a:ahLst/>
              <a:rect l="l" t="t" r="r" b="b"/>
              <a:pathLst>
                <a:path w="720" h="1392">
                  <a:moveTo>
                    <a:pt x="720" y="1200"/>
                  </a:moveTo>
                  <a:lnTo>
                    <a:pt x="720" y="0"/>
                  </a:lnTo>
                  <a:lnTo>
                    <a:pt x="0" y="1392"/>
                  </a:lnTo>
                  <a:lnTo>
                    <a:pt x="720" y="1200"/>
                  </a:lnTo>
                  <a:close/>
                </a:path>
              </a:pathLst>
            </a:custGeom>
            <a:solidFill>
              <a:srgbClr val="99ff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72000" y="2133720"/>
              <a:ext cx="1143000" cy="2667240"/>
            </a:xfrm>
            <a:custGeom>
              <a:avLst/>
              <a:gdLst/>
              <a:ahLst/>
              <a:rect l="l" t="t" r="r" b="b"/>
              <a:pathLst>
                <a:path w="720" h="1680">
                  <a:moveTo>
                    <a:pt x="432" y="1680"/>
                  </a:moveTo>
                  <a:lnTo>
                    <a:pt x="720" y="1392"/>
                  </a:lnTo>
                  <a:lnTo>
                    <a:pt x="0" y="0"/>
                  </a:lnTo>
                  <a:lnTo>
                    <a:pt x="432" y="1680"/>
                  </a:lnTo>
                  <a:close/>
                </a:path>
              </a:pathLst>
            </a:custGeom>
            <a:solidFill>
              <a:srgbClr val="99ff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428280" y="2133720"/>
              <a:ext cx="1143000" cy="2667240"/>
            </a:xfrm>
            <a:custGeom>
              <a:avLst/>
              <a:gdLst/>
              <a:ahLst/>
              <a:rect l="l" t="t" r="r" b="b"/>
              <a:pathLst>
                <a:path w="720" h="1680">
                  <a:moveTo>
                    <a:pt x="432" y="1680"/>
                  </a:moveTo>
                  <a:lnTo>
                    <a:pt x="720" y="1392"/>
                  </a:lnTo>
                  <a:lnTo>
                    <a:pt x="0" y="0"/>
                  </a:lnTo>
                  <a:lnTo>
                    <a:pt x="432" y="1680"/>
                  </a:lnTo>
                  <a:close/>
                </a:path>
              </a:pathLst>
            </a:custGeom>
            <a:solidFill>
              <a:srgbClr val="99ff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6200" y="2133720"/>
              <a:ext cx="1371600" cy="2667240"/>
            </a:xfrm>
            <a:prstGeom prst="triangle">
              <a:avLst>
                <a:gd name="adj" fmla="val 50000"/>
              </a:avLst>
            </a:prstGeom>
            <a:solidFill>
              <a:srgbClr val="99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76720" y="4800960"/>
              <a:ext cx="24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yrami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85800" y="4419720"/>
            <a:ext cx="2362320" cy="2440080"/>
            <a:chOff x="685800" y="4419720"/>
            <a:chExt cx="2362320" cy="2440080"/>
          </a:xfrm>
        </p:grpSpPr>
        <p:sp>
          <p:nvSpPr>
            <p:cNvPr id="261" name=""/>
            <p:cNvSpPr/>
            <p:nvPr/>
          </p:nvSpPr>
          <p:spPr>
            <a:xfrm>
              <a:off x="838080" y="4419720"/>
              <a:ext cx="2133720" cy="1752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627840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ylinde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248520" y="1600200"/>
            <a:ext cx="2438280" cy="2410200"/>
            <a:chOff x="6248520" y="1600200"/>
            <a:chExt cx="2438280" cy="2410200"/>
          </a:xfrm>
        </p:grpSpPr>
        <p:sp>
          <p:nvSpPr>
            <p:cNvPr id="264" name=""/>
            <p:cNvSpPr/>
            <p:nvPr/>
          </p:nvSpPr>
          <p:spPr>
            <a:xfrm>
              <a:off x="6248520" y="1600200"/>
              <a:ext cx="2438280" cy="1600200"/>
            </a:xfrm>
            <a:custGeom>
              <a:avLst/>
              <a:gdLst/>
              <a:ahLst/>
              <a:rect l="l" t="t" r="r" b="b"/>
              <a:pathLst>
                <a:path w="1536" h="1008">
                  <a:moveTo>
                    <a:pt x="0" y="1008"/>
                  </a:moveTo>
                  <a:lnTo>
                    <a:pt x="720" y="0"/>
                  </a:lnTo>
                  <a:lnTo>
                    <a:pt x="1536" y="1008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3048120"/>
              <a:ext cx="24382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34320" y="342900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867280" y="4343400"/>
            <a:ext cx="2362320" cy="2516400"/>
            <a:chOff x="5867280" y="4343400"/>
            <a:chExt cx="2362320" cy="2516400"/>
          </a:xfrm>
        </p:grpSpPr>
        <p:sp>
          <p:nvSpPr>
            <p:cNvPr id="268" name=""/>
            <p:cNvSpPr/>
            <p:nvPr/>
          </p:nvSpPr>
          <p:spPr>
            <a:xfrm>
              <a:off x="6095880" y="4343400"/>
              <a:ext cx="2057400" cy="198108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95880" y="5181480"/>
              <a:ext cx="2057400" cy="38124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67280" y="627840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phe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aming Space Fig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37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 figure, describe the base and name the fig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28600" y="2209680"/>
            <a:ext cx="3124080" cy="1371600"/>
            <a:chOff x="228600" y="2209680"/>
            <a:chExt cx="3124080" cy="1371600"/>
          </a:xfrm>
        </p:grpSpPr>
        <p:sp>
          <p:nvSpPr>
            <p:cNvPr id="275" name=""/>
            <p:cNvSpPr/>
            <p:nvPr/>
          </p:nvSpPr>
          <p:spPr>
            <a:xfrm>
              <a:off x="533520" y="2209680"/>
              <a:ext cx="2361960" cy="1371600"/>
            </a:xfrm>
            <a:custGeom>
              <a:avLst/>
              <a:gdLst/>
              <a:ahLst/>
              <a:rect l="l" t="t" r="r" b="b"/>
              <a:pathLst>
                <a:path w="1488" h="864">
                  <a:moveTo>
                    <a:pt x="288" y="144"/>
                  </a:moveTo>
                  <a:lnTo>
                    <a:pt x="1488" y="0"/>
                  </a:lnTo>
                  <a:lnTo>
                    <a:pt x="1200" y="720"/>
                  </a:lnTo>
                  <a:lnTo>
                    <a:pt x="0" y="864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3520" y="2438280"/>
              <a:ext cx="914400" cy="1143000"/>
            </a:xfrm>
            <a:prstGeom prst="triangle">
              <a:avLst>
                <a:gd name="adj" fmla="val 50000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38280" y="2209680"/>
              <a:ext cx="914400" cy="1143000"/>
            </a:xfrm>
            <a:prstGeom prst="triangle">
              <a:avLst>
                <a:gd name="adj" fmla="val 50000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228600" y="2209680"/>
              <a:ext cx="3124080" cy="1371600"/>
              <a:chOff x="228600" y="2209680"/>
              <a:chExt cx="3124080" cy="1371600"/>
            </a:xfrm>
          </p:grpSpPr>
          <p:sp>
            <p:nvSpPr>
              <p:cNvPr id="279" name=""/>
              <p:cNvSpPr/>
              <p:nvPr/>
            </p:nvSpPr>
            <p:spPr>
              <a:xfrm>
                <a:off x="990720" y="2209680"/>
                <a:ext cx="2361960" cy="1371600"/>
              </a:xfrm>
              <a:custGeom>
                <a:avLst/>
                <a:gdLst/>
                <a:ahLst/>
                <a:rect l="l" t="t" r="r" b="b"/>
                <a:pathLst>
                  <a:path w="1488" h="864">
                    <a:moveTo>
                      <a:pt x="0" y="144"/>
                    </a:moveTo>
                    <a:lnTo>
                      <a:pt x="1200" y="0"/>
                    </a:lnTo>
                    <a:lnTo>
                      <a:pt x="1488" y="720"/>
                    </a:lnTo>
                    <a:lnTo>
                      <a:pt x="288" y="86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8600" y="2286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152280" y="36576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320" y="43434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ular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724280" y="2133720"/>
            <a:ext cx="2895840" cy="2514600"/>
            <a:chOff x="4724280" y="2133720"/>
            <a:chExt cx="2895840" cy="2514600"/>
          </a:xfrm>
        </p:grpSpPr>
        <p:sp>
          <p:nvSpPr>
            <p:cNvPr id="284" name=""/>
            <p:cNvSpPr/>
            <p:nvPr/>
          </p:nvSpPr>
          <p:spPr>
            <a:xfrm>
              <a:off x="4724280" y="3809880"/>
              <a:ext cx="2895840" cy="838440"/>
            </a:xfrm>
            <a:prstGeom prst="hexagon">
              <a:avLst>
                <a:gd name="adj" fmla="val 86346"/>
                <a:gd name="vf" fmla="val 115470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86400" y="2133720"/>
              <a:ext cx="1371600" cy="1676160"/>
            </a:xfrm>
            <a:custGeom>
              <a:avLst/>
              <a:gdLst/>
              <a:ahLst/>
              <a:rect l="l" t="t" r="r" b="b"/>
              <a:pathLst>
                <a:path w="864" h="1056">
                  <a:moveTo>
                    <a:pt x="0" y="1056"/>
                  </a:moveTo>
                  <a:lnTo>
                    <a:pt x="864" y="1056"/>
                  </a:lnTo>
                  <a:lnTo>
                    <a:pt x="432" y="0"/>
                  </a:lnTo>
                  <a:lnTo>
                    <a:pt x="0" y="1056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24280" y="2133720"/>
              <a:ext cx="1447920" cy="2133360"/>
            </a:xfrm>
            <a:custGeom>
              <a:avLst/>
              <a:gdLst/>
              <a:ahLst/>
              <a:rect l="l" t="t" r="r" b="b"/>
              <a:pathLst>
                <a:path w="912" h="1344">
                  <a:moveTo>
                    <a:pt x="480" y="1056"/>
                  </a:moveTo>
                  <a:lnTo>
                    <a:pt x="912" y="0"/>
                  </a:lnTo>
                  <a:lnTo>
                    <a:pt x="0" y="1344"/>
                  </a:lnTo>
                  <a:lnTo>
                    <a:pt x="480" y="1056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172200" y="2133720"/>
              <a:ext cx="1447920" cy="2133360"/>
            </a:xfrm>
            <a:custGeom>
              <a:avLst/>
              <a:gdLst/>
              <a:ahLst/>
              <a:rect l="l" t="t" r="r" b="b"/>
              <a:pathLst>
                <a:path w="912" h="1344">
                  <a:moveTo>
                    <a:pt x="480" y="1056"/>
                  </a:moveTo>
                  <a:lnTo>
                    <a:pt x="912" y="0"/>
                  </a:lnTo>
                  <a:lnTo>
                    <a:pt x="0" y="1344"/>
                  </a:lnTo>
                  <a:lnTo>
                    <a:pt x="480" y="1056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24280" y="2133720"/>
              <a:ext cx="1447920" cy="2514600"/>
            </a:xfrm>
            <a:custGeom>
              <a:avLst/>
              <a:gdLst/>
              <a:ahLst/>
              <a:rect l="l" t="t" r="r" b="b"/>
              <a:pathLst>
                <a:path w="912" h="1584">
                  <a:moveTo>
                    <a:pt x="0" y="1344"/>
                  </a:moveTo>
                  <a:lnTo>
                    <a:pt x="912" y="0"/>
                  </a:lnTo>
                  <a:lnTo>
                    <a:pt x="480" y="1584"/>
                  </a:lnTo>
                  <a:lnTo>
                    <a:pt x="0" y="1344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172200" y="2133720"/>
              <a:ext cx="1447920" cy="2514600"/>
            </a:xfrm>
            <a:custGeom>
              <a:avLst/>
              <a:gdLst/>
              <a:ahLst/>
              <a:rect l="l" t="t" r="r" b="b"/>
              <a:pathLst>
                <a:path w="912" h="1584">
                  <a:moveTo>
                    <a:pt x="0" y="1344"/>
                  </a:moveTo>
                  <a:lnTo>
                    <a:pt x="912" y="0"/>
                  </a:lnTo>
                  <a:lnTo>
                    <a:pt x="480" y="1584"/>
                  </a:lnTo>
                  <a:lnTo>
                    <a:pt x="0" y="1344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24280" y="22860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4572000" y="46483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xag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91120" y="52578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xagonal pyra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aming Space Fig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137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e figure drawn from each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2057400"/>
            <a:ext cx="3429000" cy="3429000"/>
            <a:chOff x="457200" y="2057400"/>
            <a:chExt cx="3429000" cy="3429000"/>
          </a:xfrm>
        </p:grpSpPr>
        <p:grpSp>
          <p:nvGrpSpPr>
            <p:cNvPr id="297" name=""/>
            <p:cNvGrpSpPr/>
            <p:nvPr/>
          </p:nvGrpSpPr>
          <p:grpSpPr>
            <a:xfrm>
              <a:off x="457200" y="2057400"/>
              <a:ext cx="3429000" cy="3429000"/>
              <a:chOff x="457200" y="2057400"/>
              <a:chExt cx="3429000" cy="3429000"/>
            </a:xfrm>
          </p:grpSpPr>
          <p:sp>
            <p:nvSpPr>
              <p:cNvPr id="298" name=""/>
              <p:cNvSpPr/>
              <p:nvPr/>
            </p:nvSpPr>
            <p:spPr>
              <a:xfrm>
                <a:off x="1447920" y="3048120"/>
                <a:ext cx="1447560" cy="1447560"/>
              </a:xfrm>
              <a:prstGeom prst="octagon">
                <a:avLst>
                  <a:gd name="adj" fmla="val 2928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828800" y="205740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700000">
                <a:off x="2705400" y="240012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5400000">
                <a:off x="3085920" y="323820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8100000">
                <a:off x="2742480" y="411480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0800000">
                <a:off x="1904760" y="449568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3500000">
                <a:off x="1028160" y="415224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6200000">
                <a:off x="647640" y="331416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8900000">
                <a:off x="990720" y="243792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457200" y="2209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28600" y="55627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ctagonal pyra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419720" y="1981080"/>
            <a:ext cx="4343400" cy="3505320"/>
            <a:chOff x="4419720" y="1981080"/>
            <a:chExt cx="4343400" cy="3505320"/>
          </a:xfrm>
        </p:grpSpPr>
        <p:grpSp>
          <p:nvGrpSpPr>
            <p:cNvPr id="310" name=""/>
            <p:cNvGrpSpPr/>
            <p:nvPr/>
          </p:nvGrpSpPr>
          <p:grpSpPr>
            <a:xfrm>
              <a:off x="4419720" y="1981080"/>
              <a:ext cx="4343400" cy="3505320"/>
              <a:chOff x="4419720" y="1981080"/>
              <a:chExt cx="4343400" cy="3505320"/>
            </a:xfrm>
          </p:grpSpPr>
          <p:sp>
            <p:nvSpPr>
              <p:cNvPr id="311" name=""/>
              <p:cNvSpPr/>
              <p:nvPr/>
            </p:nvSpPr>
            <p:spPr>
              <a:xfrm>
                <a:off x="6934320" y="3962520"/>
                <a:ext cx="1828800" cy="838080"/>
              </a:xfrm>
              <a:prstGeom prst="rtTriangl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 rot="10800000">
                <a:off x="4419720" y="3962520"/>
                <a:ext cx="1828800" cy="838080"/>
              </a:xfrm>
              <a:prstGeom prst="rtTriangl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934320" y="4800600"/>
                <a:ext cx="1828800" cy="6858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248520" y="3962520"/>
                <a:ext cx="685800" cy="83808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248520" y="1981080"/>
                <a:ext cx="685800" cy="198144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5562720" y="22860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4724280" y="55627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ular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71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 figure, describe the base(s) and name the figu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1714320" y="2398320"/>
            <a:ext cx="2895480" cy="838080"/>
          </a:xfrm>
          <a:prstGeom prst="hexagon">
            <a:avLst>
              <a:gd name="adj" fmla="val 86372"/>
              <a:gd name="vf" fmla="val 115470"/>
            </a:avLst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6200000">
            <a:off x="1218960" y="1979280"/>
            <a:ext cx="1371600" cy="1676520"/>
          </a:xfrm>
          <a:custGeom>
            <a:avLst/>
            <a:gdLst/>
            <a:ahLst/>
            <a:rect l="l" t="t" r="r" b="b"/>
            <a:pathLst>
              <a:path w="864" h="1056">
                <a:moveTo>
                  <a:pt x="0" y="1056"/>
                </a:moveTo>
                <a:lnTo>
                  <a:pt x="864" y="1056"/>
                </a:lnTo>
                <a:lnTo>
                  <a:pt x="432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1409400" y="2474640"/>
            <a:ext cx="1447920" cy="2133720"/>
          </a:xfrm>
          <a:custGeom>
            <a:avLst/>
            <a:gdLst/>
            <a:ahLst/>
            <a:rect l="l" t="t" r="r" b="b"/>
            <a:pathLst>
              <a:path w="912" h="1344">
                <a:moveTo>
                  <a:pt x="480" y="1056"/>
                </a:moveTo>
                <a:lnTo>
                  <a:pt x="912" y="0"/>
                </a:lnTo>
                <a:lnTo>
                  <a:pt x="0" y="1344"/>
                </a:lnTo>
                <a:lnTo>
                  <a:pt x="480" y="1056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16200000">
            <a:off x="1407240" y="1027080"/>
            <a:ext cx="1447560" cy="2133720"/>
          </a:xfrm>
          <a:custGeom>
            <a:avLst/>
            <a:gdLst/>
            <a:ahLst/>
            <a:rect l="l" t="t" r="r" b="b"/>
            <a:pathLst>
              <a:path w="912" h="1344">
                <a:moveTo>
                  <a:pt x="480" y="1056"/>
                </a:moveTo>
                <a:lnTo>
                  <a:pt x="912" y="0"/>
                </a:lnTo>
                <a:lnTo>
                  <a:pt x="0" y="1344"/>
                </a:lnTo>
                <a:lnTo>
                  <a:pt x="480" y="1056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1600200" y="2285640"/>
            <a:ext cx="144756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0" y="1344"/>
                </a:moveTo>
                <a:lnTo>
                  <a:pt x="912" y="0"/>
                </a:lnTo>
                <a:lnTo>
                  <a:pt x="480" y="1584"/>
                </a:lnTo>
                <a:lnTo>
                  <a:pt x="0" y="1344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rot="16200000">
            <a:off x="1598760" y="838080"/>
            <a:ext cx="144792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0" y="1344"/>
                </a:moveTo>
                <a:lnTo>
                  <a:pt x="912" y="0"/>
                </a:lnTo>
                <a:lnTo>
                  <a:pt x="480" y="1584"/>
                </a:lnTo>
                <a:lnTo>
                  <a:pt x="0" y="1344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44197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xag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50292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xagonal pyra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57600" y="1654200"/>
            <a:ext cx="1262160" cy="1582560"/>
          </a:xfrm>
          <a:custGeom>
            <a:avLst/>
            <a:gdLst/>
            <a:ahLst/>
            <a:rect l="l" t="t" r="r" b="b"/>
            <a:pathLst>
              <a:path w="795" h="997">
                <a:moveTo>
                  <a:pt x="0" y="677"/>
                </a:moveTo>
                <a:lnTo>
                  <a:pt x="228" y="0"/>
                </a:lnTo>
                <a:lnTo>
                  <a:pt x="795" y="265"/>
                </a:lnTo>
                <a:lnTo>
                  <a:pt x="795" y="887"/>
                </a:lnTo>
                <a:lnTo>
                  <a:pt x="347" y="997"/>
                </a:lnTo>
                <a:lnTo>
                  <a:pt x="0" y="677"/>
                </a:lnTo>
                <a:close/>
              </a:path>
            </a:pathLst>
          </a:custGeom>
          <a:solidFill>
            <a:srgbClr val="66ff99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91360" y="1660680"/>
            <a:ext cx="1261800" cy="1582560"/>
          </a:xfrm>
          <a:custGeom>
            <a:avLst/>
            <a:gdLst/>
            <a:ahLst/>
            <a:rect l="l" t="t" r="r" b="b"/>
            <a:pathLst>
              <a:path w="795" h="997">
                <a:moveTo>
                  <a:pt x="0" y="677"/>
                </a:moveTo>
                <a:lnTo>
                  <a:pt x="228" y="0"/>
                </a:lnTo>
                <a:lnTo>
                  <a:pt x="795" y="265"/>
                </a:lnTo>
                <a:lnTo>
                  <a:pt x="795" y="887"/>
                </a:lnTo>
                <a:lnTo>
                  <a:pt x="347" y="997"/>
                </a:lnTo>
                <a:lnTo>
                  <a:pt x="0" y="677"/>
                </a:lnTo>
                <a:close/>
              </a:path>
            </a:pathLst>
          </a:custGeom>
          <a:solidFill>
            <a:srgbClr val="66ff99"/>
          </a:solidFill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19760" y="1654200"/>
            <a:ext cx="2627280" cy="420840"/>
          </a:xfrm>
          <a:custGeom>
            <a:avLst/>
            <a:gdLst/>
            <a:ahLst/>
            <a:rect l="l" t="t" r="r" b="b"/>
            <a:pathLst>
              <a:path w="1655" h="265">
                <a:moveTo>
                  <a:pt x="0" y="0"/>
                </a:moveTo>
                <a:lnTo>
                  <a:pt x="1098" y="0"/>
                </a:lnTo>
                <a:lnTo>
                  <a:pt x="1655" y="265"/>
                </a:lnTo>
                <a:lnTo>
                  <a:pt x="567" y="265"/>
                </a:lnTo>
                <a:lnTo>
                  <a:pt x="0" y="0"/>
                </a:lnTo>
                <a:close/>
              </a:path>
            </a:pathLst>
          </a:custGeom>
          <a:solidFill>
            <a:srgbClr val="66ff99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819760" y="2060640"/>
            <a:ext cx="1727280" cy="1001520"/>
          </a:xfrm>
          <a:custGeom>
            <a:avLst/>
            <a:gdLst/>
            <a:ahLst/>
            <a:rect l="l" t="t" r="r" b="b"/>
            <a:pathLst>
              <a:path w="1088" h="631">
                <a:moveTo>
                  <a:pt x="0" y="0"/>
                </a:moveTo>
                <a:lnTo>
                  <a:pt x="1088" y="0"/>
                </a:lnTo>
                <a:lnTo>
                  <a:pt x="1088" y="631"/>
                </a:lnTo>
                <a:lnTo>
                  <a:pt x="0" y="631"/>
                </a:lnTo>
                <a:lnTo>
                  <a:pt x="0" y="0"/>
                </a:lnTo>
                <a:close/>
              </a:path>
            </a:pathLst>
          </a:custGeom>
          <a:solidFill>
            <a:srgbClr val="66ff99">
              <a:alpha val="4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43560" y="1639800"/>
            <a:ext cx="2133360" cy="1074960"/>
          </a:xfrm>
          <a:custGeom>
            <a:avLst/>
            <a:gdLst/>
            <a:ahLst/>
            <a:rect l="l" t="t" r="r" b="b"/>
            <a:pathLst>
              <a:path w="1344" h="677">
                <a:moveTo>
                  <a:pt x="237" y="0"/>
                </a:moveTo>
                <a:lnTo>
                  <a:pt x="1344" y="0"/>
                </a:lnTo>
                <a:lnTo>
                  <a:pt x="1106" y="677"/>
                </a:lnTo>
                <a:lnTo>
                  <a:pt x="0" y="677"/>
                </a:lnTo>
                <a:lnTo>
                  <a:pt x="237" y="0"/>
                </a:lnTo>
                <a:close/>
              </a:path>
            </a:pathLst>
          </a:custGeom>
          <a:solidFill>
            <a:srgbClr val="66ff99">
              <a:alpha val="20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08400" y="3062160"/>
            <a:ext cx="2438640" cy="174600"/>
          </a:xfrm>
          <a:custGeom>
            <a:avLst/>
            <a:gdLst/>
            <a:ahLst/>
            <a:rect l="l" t="t" r="r" b="b"/>
            <a:pathLst>
              <a:path w="1536" h="110">
                <a:moveTo>
                  <a:pt x="0" y="110"/>
                </a:moveTo>
                <a:lnTo>
                  <a:pt x="448" y="0"/>
                </a:lnTo>
                <a:lnTo>
                  <a:pt x="1536" y="0"/>
                </a:lnTo>
                <a:lnTo>
                  <a:pt x="1088" y="101"/>
                </a:lnTo>
                <a:lnTo>
                  <a:pt x="0" y="110"/>
                </a:lnTo>
                <a:close/>
              </a:path>
            </a:pathLst>
          </a:custGeom>
          <a:solidFill>
            <a:srgbClr val="66ff99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95640" y="179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76800" y="43988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ntag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95920" y="50086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ntagonal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030400" y="2727360"/>
            <a:ext cx="1103400" cy="1552680"/>
          </a:xfrm>
          <a:custGeom>
            <a:avLst/>
            <a:gdLst/>
            <a:ahLst/>
            <a:rect l="l" t="t" r="r" b="b"/>
            <a:pathLst>
              <a:path w="676" h="978">
                <a:moveTo>
                  <a:pt x="0" y="969"/>
                </a:moveTo>
                <a:lnTo>
                  <a:pt x="0" y="0"/>
                </a:lnTo>
                <a:lnTo>
                  <a:pt x="676" y="0"/>
                </a:lnTo>
                <a:lnTo>
                  <a:pt x="676" y="978"/>
                </a:lnTo>
                <a:lnTo>
                  <a:pt x="0" y="969"/>
                </a:lnTo>
                <a:close/>
              </a:path>
            </a:pathLst>
          </a:custGeom>
          <a:solidFill>
            <a:srgbClr val="cc99ff">
              <a:alpha val="40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71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 figure, describe the base(s) and name the figu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44197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50292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ular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31840" y="2990880"/>
            <a:ext cx="1103400" cy="1278000"/>
          </a:xfrm>
          <a:prstGeom prst="triangle">
            <a:avLst>
              <a:gd name="adj" fmla="val 38273"/>
            </a:avLst>
          </a:prstGeom>
          <a:solidFill>
            <a:srgbClr val="cc99ff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25720" y="1442880"/>
            <a:ext cx="1103400" cy="1278000"/>
          </a:xfrm>
          <a:prstGeom prst="triangle">
            <a:avLst>
              <a:gd name="adj" fmla="val 38273"/>
            </a:avLst>
          </a:prstGeom>
          <a:solidFill>
            <a:srgbClr val="cc99ff">
              <a:alpha val="70000"/>
            </a:srgbClr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17800" y="1436760"/>
            <a:ext cx="420480" cy="2830320"/>
          </a:xfrm>
          <a:custGeom>
            <a:avLst/>
            <a:gdLst/>
            <a:ahLst/>
            <a:rect l="l" t="t" r="r" b="b"/>
            <a:pathLst>
              <a:path w="265" h="1783">
                <a:moveTo>
                  <a:pt x="0" y="1783"/>
                </a:moveTo>
                <a:lnTo>
                  <a:pt x="0" y="805"/>
                </a:lnTo>
                <a:lnTo>
                  <a:pt x="265" y="0"/>
                </a:lnTo>
                <a:lnTo>
                  <a:pt x="265" y="978"/>
                </a:lnTo>
                <a:lnTo>
                  <a:pt x="0" y="1783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54120" y="1436760"/>
            <a:ext cx="696960" cy="2830320"/>
          </a:xfrm>
          <a:custGeom>
            <a:avLst/>
            <a:gdLst/>
            <a:ahLst/>
            <a:rect l="l" t="t" r="r" b="b"/>
            <a:pathLst>
              <a:path w="439" h="1783">
                <a:moveTo>
                  <a:pt x="0" y="0"/>
                </a:moveTo>
                <a:lnTo>
                  <a:pt x="430" y="805"/>
                </a:lnTo>
                <a:lnTo>
                  <a:pt x="439" y="1783"/>
                </a:lnTo>
                <a:lnTo>
                  <a:pt x="0" y="960"/>
                </a:lnTo>
                <a:lnTo>
                  <a:pt x="0" y="0"/>
                </a:lnTo>
                <a:close/>
              </a:path>
            </a:pathLst>
          </a:custGeom>
          <a:solidFill>
            <a:srgbClr val="cc99ff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71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e space figure you can form from each ne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41320" y="53341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quare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46240" y="1552680"/>
            <a:ext cx="3106800" cy="74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0920" y="2270160"/>
            <a:ext cx="3106800" cy="74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43000" y="3005280"/>
            <a:ext cx="3106800" cy="74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50920" y="3738600"/>
            <a:ext cx="3106800" cy="74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53040" y="3746520"/>
            <a:ext cx="784080" cy="739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57480" y="3740040"/>
            <a:ext cx="784080" cy="739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500"/>
                            </p:stCondLst>
                            <p:childTnLst>
                              <p:par>
                                <p:cTn id="9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71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e space figure you can form from each ne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06520" y="3736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ular Pyra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27200" y="1770120"/>
            <a:ext cx="1611360" cy="13939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18040" y="1762200"/>
            <a:ext cx="1611000" cy="13939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0800000">
            <a:off x="2427120" y="1757160"/>
            <a:ext cx="1611360" cy="139356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10800000">
            <a:off x="4030560" y="1763640"/>
            <a:ext cx="1611360" cy="13939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500"/>
                            </p:stCondLst>
                            <p:childTnLst>
                              <p:par>
                                <p:cTn id="97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500"/>
                            </p:stCondLst>
                            <p:childTnLst>
                              <p:par>
                                <p:cTn id="98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71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e space figure you can form from each ne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34960" y="553716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ular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38160" y="1312920"/>
            <a:ext cx="1611360" cy="13939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0800000">
            <a:off x="5045040" y="4303440"/>
            <a:ext cx="1611360" cy="139356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43200" y="2700360"/>
            <a:ext cx="1611360" cy="16113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48080" y="2693880"/>
            <a:ext cx="1611360" cy="16113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51520" y="2701800"/>
            <a:ext cx="1611360" cy="16113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Cir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3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area of each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33520" y="2057400"/>
            <a:ext cx="2743200" cy="2362320"/>
            <a:chOff x="533520" y="2057400"/>
            <a:chExt cx="2743200" cy="2362320"/>
          </a:xfrm>
        </p:grpSpPr>
        <p:sp>
          <p:nvSpPr>
            <p:cNvPr id="85" name=""/>
            <p:cNvSpPr/>
            <p:nvPr/>
          </p:nvSpPr>
          <p:spPr>
            <a:xfrm>
              <a:off x="914400" y="2057400"/>
              <a:ext cx="2362320" cy="2362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352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33720" y="32004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740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066680" y="449568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5029200"/>
            <a:ext cx="2895480" cy="12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3 )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56386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9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6216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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105520" y="2057400"/>
            <a:ext cx="2895480" cy="2362320"/>
            <a:chOff x="5105520" y="2057400"/>
            <a:chExt cx="2895480" cy="2362320"/>
          </a:xfrm>
        </p:grpSpPr>
        <p:sp>
          <p:nvSpPr>
            <p:cNvPr id="94" name=""/>
            <p:cNvSpPr/>
            <p:nvPr/>
          </p:nvSpPr>
          <p:spPr>
            <a:xfrm>
              <a:off x="5638680" y="2057400"/>
              <a:ext cx="2362320" cy="2362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38680" y="327672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00800" y="28958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 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22100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638680" y="449568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5029200"/>
            <a:ext cx="335304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10 )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56386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100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6216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Cir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3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area of each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85800" y="2133720"/>
            <a:ext cx="3352680" cy="4419360"/>
            <a:chOff x="685800" y="2133720"/>
            <a:chExt cx="3352680" cy="4419360"/>
          </a:xfrm>
        </p:grpSpPr>
        <p:grpSp>
          <p:nvGrpSpPr>
            <p:cNvPr id="106" name=""/>
            <p:cNvGrpSpPr/>
            <p:nvPr/>
          </p:nvGrpSpPr>
          <p:grpSpPr>
            <a:xfrm>
              <a:off x="1219320" y="2133720"/>
              <a:ext cx="1828800" cy="3657600"/>
              <a:chOff x="1219320" y="2133720"/>
              <a:chExt cx="1828800" cy="3657600"/>
            </a:xfrm>
          </p:grpSpPr>
          <p:sp>
            <p:nvSpPr>
              <p:cNvPr id="107" name=""/>
              <p:cNvSpPr/>
              <p:nvPr/>
            </p:nvSpPr>
            <p:spPr>
              <a:xfrm rot="5400000">
                <a:off x="1219320" y="3048120"/>
                <a:ext cx="1828800" cy="182880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400000">
                <a:off x="1179360" y="2173320"/>
                <a:ext cx="1905120" cy="1825560"/>
              </a:xfrm>
              <a:prstGeom prst="ellipse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00000">
                <a:off x="1257480" y="3086280"/>
                <a:ext cx="1752480" cy="1828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24240" y="3124440"/>
                <a:ext cx="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219320" y="342936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5400000">
                <a:off x="1182960" y="3926160"/>
                <a:ext cx="1904760" cy="1825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85800" y="2209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8120" y="35053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76520" y="30481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2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876920"/>
              <a:ext cx="289584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62120" y="1981080"/>
            <a:ext cx="2895480" cy="4114800"/>
            <a:chOff x="762120" y="1981080"/>
            <a:chExt cx="2895480" cy="4114800"/>
          </a:xfrm>
        </p:grpSpPr>
        <p:sp>
          <p:nvSpPr>
            <p:cNvPr id="118" name=""/>
            <p:cNvSpPr/>
            <p:nvPr/>
          </p:nvSpPr>
          <p:spPr>
            <a:xfrm>
              <a:off x="1219320" y="3047760"/>
              <a:ext cx="1828800" cy="1752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77600" y="297180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2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1523880" y="304740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43000" y="1981080"/>
              <a:ext cx="236232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3886200"/>
              <a:ext cx="18288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80060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952880" y="30481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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12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3657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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circle. Give an exact area and an approximat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13372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038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9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800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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t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676520"/>
            <a:ext cx="1752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= 3 f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74320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352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9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t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274320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46483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25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54100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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1676520"/>
            <a:ext cx="2514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= 10 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335268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39625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25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2209680"/>
            <a:ext cx="2514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= 5 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circle. Give an exact area and an approximat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213372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4038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400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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676520"/>
            <a:ext cx="2210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= 20 c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74320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33526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400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403848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5334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14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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t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03848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2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47242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144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t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876920" y="1676520"/>
            <a:ext cx="2743200" cy="2361960"/>
            <a:chOff x="4876920" y="1676520"/>
            <a:chExt cx="2743200" cy="2361960"/>
          </a:xfrm>
        </p:grpSpPr>
        <p:sp>
          <p:nvSpPr>
            <p:cNvPr id="156" name=""/>
            <p:cNvSpPr/>
            <p:nvPr/>
          </p:nvSpPr>
          <p:spPr>
            <a:xfrm>
              <a:off x="5257800" y="1676520"/>
              <a:ext cx="2362320" cy="2361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76920" y="1752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77120" y="2819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294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circle. Give an exact area and an approximat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419112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5334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6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5943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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419112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4724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64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1752480"/>
            <a:ext cx="2895480" cy="2362320"/>
            <a:chOff x="228600" y="1752480"/>
            <a:chExt cx="2895480" cy="2362320"/>
          </a:xfrm>
        </p:grpSpPr>
        <p:sp>
          <p:nvSpPr>
            <p:cNvPr id="168" name=""/>
            <p:cNvSpPr/>
            <p:nvPr/>
          </p:nvSpPr>
          <p:spPr>
            <a:xfrm>
              <a:off x="761760" y="1752480"/>
              <a:ext cx="2362320" cy="2362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1760" y="29718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3880" y="2590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6 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600" y="1905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419720" y="4191120"/>
            <a:ext cx="259056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5334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900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59436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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4191120"/>
            <a:ext cx="259056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30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47242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900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419720" y="1752480"/>
            <a:ext cx="2895480" cy="2362320"/>
            <a:chOff x="4419720" y="1752480"/>
            <a:chExt cx="2895480" cy="2362320"/>
          </a:xfrm>
        </p:grpSpPr>
        <p:sp>
          <p:nvSpPr>
            <p:cNvPr id="178" name=""/>
            <p:cNvSpPr/>
            <p:nvPr/>
          </p:nvSpPr>
          <p:spPr>
            <a:xfrm>
              <a:off x="4952880" y="1752480"/>
              <a:ext cx="2362320" cy="2362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52880" y="29718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15000" y="2590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0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19720" y="1905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14800" y="1752480"/>
            <a:ext cx="1904760" cy="1905120"/>
          </a:xfrm>
          <a:prstGeom prst="ellipse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figure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6640" y="5362560"/>
            <a:ext cx="60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70 + ½ (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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12.25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55720" y="5973840"/>
            <a:ext cx="388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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19040" y="4714920"/>
            <a:ext cx="373716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70 + 1/2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3.5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18000" y="597204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89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3240" y="1752480"/>
            <a:ext cx="3276720" cy="1919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01800" y="1751040"/>
            <a:ext cx="3300480" cy="1908000"/>
          </a:xfrm>
          <a:custGeom>
            <a:avLst/>
            <a:gdLst/>
            <a:ahLst/>
            <a:rect l="l" t="t" r="r" b="b"/>
            <a:pathLst>
              <a:path w="2117" h="1193">
                <a:moveTo>
                  <a:pt x="2085" y="0"/>
                </a:moveTo>
                <a:lnTo>
                  <a:pt x="0" y="0"/>
                </a:lnTo>
                <a:lnTo>
                  <a:pt x="0" y="1193"/>
                </a:lnTo>
                <a:lnTo>
                  <a:pt x="2117" y="119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84640" y="1751040"/>
            <a:ext cx="0" cy="9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01800" y="3489480"/>
            <a:ext cx="155520" cy="155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2960" y="1749600"/>
            <a:ext cx="155520" cy="155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25880" y="1758960"/>
            <a:ext cx="155520" cy="155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31800" y="1301760"/>
            <a:ext cx="20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02120" y="20588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5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3000" y="239400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3360" y="1301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4000" y="1755720"/>
            <a:ext cx="0" cy="1901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45640" y="4002120"/>
            <a:ext cx="21096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 1/2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60240" y="4079880"/>
                <a:ext cx="30639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animMotion origin="layout" path="M 0 0 L 0.25 0 E">
                                      <p:cBhvr>
                                        <p:cTn id="501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03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05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90480" y="1703520"/>
            <a:ext cx="1857600" cy="185724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41600" y="1711440"/>
            <a:ext cx="1873080" cy="185724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figure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6640" y="5362560"/>
            <a:ext cx="60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1600 + (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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400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55720" y="59738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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9040" y="4714920"/>
            <a:ext cx="47674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1600 +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18000" y="597204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2856 yd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3360" y="1301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25720" y="4016520"/>
            <a:ext cx="14590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50720" y="4079880"/>
                <a:ext cx="34830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611360" y="1711440"/>
            <a:ext cx="1843200" cy="18428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84440" y="1697040"/>
            <a:ext cx="174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3562200"/>
            <a:ext cx="182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96960" y="3394080"/>
            <a:ext cx="160560" cy="1602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1703520"/>
            <a:ext cx="160200" cy="1602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87880" y="3400560"/>
            <a:ext cx="160200" cy="1602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81400" y="1709640"/>
            <a:ext cx="160200" cy="16056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87640" y="1260360"/>
            <a:ext cx="9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y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89120" y="2386080"/>
            <a:ext cx="9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y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68600" y="1698480"/>
            <a:ext cx="0" cy="18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11440" y="2390760"/>
            <a:ext cx="9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y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animMotion origin="layout" path="M -8.33333E-007 1.56069E-006 L 0.4033 0.03167 E">
                                      <p:cBhvr>
                                        <p:cTn id="585" dur="5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animMotion origin="layout" path="M 8.05556E-006 4.56647E-006 L 0.60469 0.03376 E">
                                      <p:cBhvr>
                                        <p:cTn id="587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-0.00208 L 0.40156 0.03376 E">
                                      <p:cBhvr>
                                        <p:cTn id="591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89017E-006 L 0.39358 0.03029 E">
                                      <p:cBhvr>
                                        <p:cTn id="595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9. Which has a greater area, a circle with radius 2 m or a square with side length 2 m? Explai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2240" y="5305320"/>
            <a:ext cx="60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(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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4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55720" y="59594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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5480" y="4729320"/>
            <a:ext cx="47671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56080" y="4118040"/>
            <a:ext cx="18248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50800" y="1674720"/>
            <a:ext cx="2743200" cy="2361960"/>
            <a:chOff x="550800" y="1674720"/>
            <a:chExt cx="2743200" cy="2361960"/>
          </a:xfrm>
        </p:grpSpPr>
        <p:sp>
          <p:nvSpPr>
            <p:cNvPr id="231" name=""/>
            <p:cNvSpPr/>
            <p:nvPr/>
          </p:nvSpPr>
          <p:spPr>
            <a:xfrm>
              <a:off x="931680" y="1674720"/>
              <a:ext cx="2362320" cy="2361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0800" y="17506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51000" y="28177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03280" y="2436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 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162160" y="2816280"/>
            <a:ext cx="1143000" cy="11430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82840" y="2435400"/>
            <a:ext cx="7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81520" y="5081760"/>
            <a:ext cx="376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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72160" y="4367160"/>
            <a:ext cx="240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(2)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172120" y="5862600"/>
            <a:ext cx="1990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ircl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animMotion origin="layout" path="M 0 0 L 0.38577 -0.06127 E">
                                      <p:cBhvr>
                                        <p:cTn id="65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animMotion origin="layout" path="M 0 0 L 0.38577 -0.06127 E">
                                      <p:cBhvr>
                                        <p:cTn id="657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yabba-dabba-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6-04-20T18:55:41Z</dcterms:modified>
  <cp:revision>18</cp:revision>
  <dc:subject/>
  <dc:title>No Slide Title</dc:title>
</cp:coreProperties>
</file>